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18B-3641-472A-866C-36F084B0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A3AE-3517-473A-9504-D367B61D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1A4A-FFCD-4FFC-B250-9873119C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0FAF-9185-4425-B9EE-802AAFC8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43F-A7AC-412D-AF19-16240A2B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D5F-C706-4A31-9D19-301D3CB5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EA8-5FCF-418A-9830-502F490D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6BF4-A639-4D00-91C4-DC3D89F1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EDAD-D585-4384-8D50-0E421C05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B7E-1046-414D-97BE-F6AAE166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A4F5-4F29-43E7-8798-7C7FECF2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A77B-6CB1-41FE-8DB5-BC446717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B5B8-70C4-42E1-A31F-5F645294F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67640" cy="58770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503280" y="2492280"/>
            <a:ext cx="820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دبر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250920" y="4149720"/>
            <a:ext cx="8297640" cy="122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5"/>
          <a:stretch/>
        </p:blipFill>
        <p:spPr>
          <a:xfrm>
            <a:off x="395280" y="5600880"/>
            <a:ext cx="825804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3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دلال بالنشأة الأولى على النشأة الأخر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3"/>
          <a:stretch/>
        </p:blipFill>
        <p:spPr>
          <a:xfrm>
            <a:off x="900000" y="981000"/>
            <a:ext cx="8126640" cy="6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7961400" cy="6476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250920" y="1701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حذر من الكفر وأه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136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14640" y="4675320"/>
            <a:ext cx="321300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بعض شبهات الكافرين حول الدين الإسلا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882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951200"/>
            <a:ext cx="8713800" cy="464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108000" y="888840"/>
            <a:ext cx="8928000" cy="95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179280" y="522936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19052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عظمة وقدر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عظمة الخلق تدل على عظم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خال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ستواء الله على العرش بكيف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ليق بجلال الله وعظم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وحده هو مدبر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ع شيء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قضاء وقدر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المشركين الذين يطلبون الشفاعة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ولياء والصالح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فاعة المثبتة هي التي تطلب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بتوحيد الربوبية على 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ستحق للعبادة هو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الق المدب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سباب الهدا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تف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النشو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على النشأة الأخر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نشأة الأو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بشير 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ثواب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ذاب الكافرين في الا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ظي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6:43:20Z</dcterms:modified>
  <cp:revision>1901</cp:revision>
  <dc:subject/>
  <dc:title>عرض تقديمي في PowerPoint</dc:title>
</cp:coreProperties>
</file>